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0AA-93D9-43BA-9296-57DE1EBAE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F88C-0572-4A82-A89B-78A8A898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7878-1FCE-4988-B0E2-397E4BF4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FC0-77F9-40ED-AF3A-6E6AC19F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D9A-DF71-461A-918D-5BA7FDE8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64756-53AD-4D81-8E7A-E8DD28B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94D2A-3944-40B1-A231-3CDD9A28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04F60-03BB-4F1D-89F6-E2AA65CE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9618B-F83A-4109-BF71-0B10333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9FBA7-6EE4-4B0D-94D0-73F46BD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E5BB0-C133-4807-8E5D-2B4464B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108CF-88D2-42D8-A5EB-F4E7575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6EE97-05FA-400C-B2C1-458B5944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D333D-C5F0-45CE-AE2E-EECA6A91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93109-CF20-4D2C-BF31-2840F255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4A0-0A78-45EA-829D-E61CCD2A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5BE77-E1B9-48AF-9704-E725A13E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29841-4F7C-49DA-9296-219A966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A9D3C-8963-49DC-8F25-13BF69B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BCC8C-E2EF-4FF4-8BAA-6743430F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E6C0E-CD3B-47AA-BE61-FBB93450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037FE-4365-4B67-B1CC-A28E35C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145AF-6422-4C4A-A333-1B554E0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69F09-955C-4F9A-8720-8143B97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6846E-4E9D-4D0B-8A26-9BC9B38A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337A8-C3BE-4F99-8E22-317119B7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6C0-93E3-4588-A5D8-A341023C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BB86E-C964-4F59-B501-CD9514DF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D630-CDBA-4089-98E1-12C079DB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6B5A8-DC60-4AA0-AA82-1AEAC98F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BDFA-4BAF-46D6-9C49-DAA9D1A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17B5B-6DBC-4CDC-9810-6FB1B072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AE188-CAB2-4DCB-98D9-7FE6E78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8F48F-2902-4A74-A5E4-4E2E5CF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CFECD-FC89-486E-9767-0F1F5B0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C8215-5B06-497D-9650-BB7EC5E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CCEF-ED5F-414D-82E2-7036462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EA00-F27E-49E3-B8F0-9FA2970F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430C-980F-4202-881A-39CBD31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B65C6-8071-49C8-AB83-6B9E6D63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FEED7-1F31-49FB-AC38-18E65187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3FFAD-A5D7-45B1-9CBC-97D4F6D9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64093-0FDB-4729-AB11-965A815A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9DF17-10C0-4806-8525-65392426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7F98B-A870-44F3-BB58-4AF87B25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C25C3-3179-4397-82ED-48F088FE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48BFA-9FB1-46A5-B837-371345D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470BA-0DF2-4203-B060-FB275FB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D531-862C-4BE3-9446-093AFD4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CD8C1-7228-486D-BE5F-228EC97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76EDC-77ED-41F4-AA69-70C3119E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7A34C-B7C8-44C0-B007-ABE650E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03D17-F404-44DD-930D-1245C55E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51256-B6E3-434C-9293-7DBD169D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DECD-9B4B-4AA3-828E-F116E19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B8A-2186-4D1A-BF09-EB375F86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20D4-7671-415D-A74E-88AB0D1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1FBB-1A4D-487A-B195-DFAA3368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8EB-07E1-4E52-928E-588B339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701-1DCC-4F75-9D2A-085E8F68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F961-A223-4682-8253-8D26944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7505-F482-49FA-A83D-B57E580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2C6F-E68D-42D3-877A-7670E80E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BDDF-DE7E-4C8E-8171-9A42F6D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DFDC-2FB2-4DC5-9459-7EC35F3C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7000-D210-413D-B594-61C624EF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E808-BF66-49D2-AC1F-37F94B7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6DD6-A582-419B-B446-B8A3215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17A7-EE5F-47C7-AF27-94ACE657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EDAE-4047-4AE8-80CA-0557B1F1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EDC-092B-4F0E-A104-2BAA85CF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A157-F86E-4312-B6A2-571AABE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B6E2-DE06-4CB4-ACA1-90305ED5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468C-7F5E-458D-B9DB-1584084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E233-DAAB-4C2D-A4EA-D7E00C8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BB93-F7A3-4C0B-929B-B7C133A5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4231-D550-48FA-9113-B1A93E50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F0F3-8AB4-47DE-9067-51D74166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5C09-9101-435D-AC28-46DCD948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B9B3-2BD5-4BA2-9230-F0928A33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9897-EE7C-4F79-98AA-7344F4E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527-3243-4D92-A650-F8C3270F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F915-74D9-4480-9D61-59E21F71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4CE2-94AE-43B0-839F-581035E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EA36-C3C5-4605-A5F2-C1E3D10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A9E7-FAAD-49F3-8641-B965DBF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72C2-34A7-4EA8-BA75-A57F6B39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718B-D510-4E2D-A622-12BC4C5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A854D-8238-4E77-AE7A-D3087F1C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E98C-6F83-4D1B-8031-EF87AB0B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2E33-6698-4688-867D-1A871025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920B-2C78-460C-ABEE-4EDCF8EF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31E-B87A-4D93-BE4B-7D5F146A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99FC6-E73D-4FBA-BA0A-84D2F27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9695-0C30-41C9-87B4-6E5495EE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782D-0F44-4AB6-90BB-DDF17FF6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9C69-CBC8-4FE1-B732-F423282E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61DE-7946-4B30-8BB3-AC5087D4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4AEA-2CA1-4EC7-9E70-4CA9A80F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4D818-6E42-4F4F-BFE3-00A5CB59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227B-B35B-4BBC-9BE2-830FCBD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4E0D-AA8E-49EF-993E-89A1AF59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902D-1F43-484C-83FD-E03AA27B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42E-E064-48D5-B321-EFFE1A2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D0D1-8FA4-4E6A-B2DF-44F93B3C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3ED17-FB5F-4AE4-BB93-6B1578DA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C9FB-C1BE-4BCB-A43C-86C2C1D9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5E623-9969-41C3-A86A-3485B85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0672-E589-417D-B766-ADFF1B1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2189-A94B-4928-8CBE-C432EAE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52EF5-3E7E-4B85-8171-9E7AF87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BDE5-8AC7-4DDE-AEAD-B71AACE8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8CE34-6E3F-4A3B-916B-D013D51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A2E3-C089-43E4-853D-0CC84019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FB4-E3B9-4B1A-928A-CA46EFC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B285-530E-43A2-95B6-7BE4B170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8B440-36EB-436A-B347-E758D85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5B8F-E752-46C9-B20F-1015AC8F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C659-60F8-4D3A-8B35-F8E6B3B3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D866-5261-4752-AD63-C04998BF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C1F4-D325-42A6-8FB7-58087536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6764-6008-4A62-A189-FB765E5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4CA32-ABAE-497C-A5F8-FA6F67B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B7603-6418-4722-9791-D6C06EE4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A7B37-A946-4AE8-9B9E-CA618CA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B3D-1CB8-4765-A1B7-9DF0702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10D1A-57CA-4087-8BE9-8B0B500C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90D9A-0EC7-4CC2-BC92-479273D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AB6C0-92D5-4F81-8CE1-54DA02D7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4CD8-F7CD-49F8-A08C-00FAC0BA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9F5F-1D9A-4CF8-AA55-24FEFBE7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154CE-8F6B-4A80-860B-268F366E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A819-42FB-4D8F-9852-97C72FC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4122C-46A5-4F2B-A2EA-ADCE7A3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EFC3-7512-467C-873A-5AC6274F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D20B-ACCD-45B9-AF5C-64D826BC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34D-6395-4212-ACC0-75AB637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D7B5-5CA4-4E48-B871-8DB715F9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9DCD6-982B-439F-BBC7-7CA2806C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6803B-2102-44A0-A05C-8B1874C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A3B4F-D29B-4910-B5BA-B66F38D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EF80-A157-4EBB-B199-98753920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9C59-63BD-4F61-AAE0-F09FDE9A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2EEA0-6492-4A13-A83E-066DD183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0E6F4-C723-416F-AFEC-8D730EE6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1175A-AD36-480E-ACDB-5F8D4137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4031C-21F9-455B-A46D-C7FE9E7B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20D1-CD6D-4FE9-8769-EAB45BD7D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89A1-9378-4B0A-945C-EFE9EAEAB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637-0FB3-4B0A-BD3D-317723C76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05E0-2E47-49AA-AEC8-15EE5FAD8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420-CC03-4584-B11D-D797AA1F2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1B0B-4ECB-414F-8965-156D45516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9AB2-7BDB-4739-83AA-7D066C09D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EA1B-DB8E-4503-A148-BEB835B1B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670E-AC3E-448A-8B98-A60DCE7C6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167-3B61-4E90-B35B-9399016C9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E563-400F-4E84-BFB2-E0612F39A2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4B0A-EF18-4505-AC35-2396D8B43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laisv@tas.edu.tw" TargetMode="External"/><Relationship Id="rId2" Type="http://schemas.openxmlformats.org/officeDocument/2006/relationships/hyperlink" Target="mailto:chens@tas.edu.tw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59984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AIPEI AMERICAN SCHOO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SL DEPART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Learning Vocabulary in a Second Language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7" descr="http://pro.corbis.com/images/42-15523332.jpg?size=67&amp;uid=ECD124CD-13A8-44C7-99D9-4CC1F06FC2EB"/>
          <p:cNvPicPr/>
          <p:nvPr/>
        </p:nvPicPr>
        <p:blipFill>
          <a:blip r:embed="rId1"/>
          <a:stretch/>
        </p:blipFill>
        <p:spPr>
          <a:xfrm>
            <a:off x="1447920" y="1752480"/>
            <a:ext cx="63007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al for ESL Par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Picture 4" descr="C:\Documents and Settings\blaisv\Desktop\VocabularyWorkshop\waterheadbaby14.jpg"/>
          <p:cNvPicPr/>
          <p:nvPr/>
        </p:nvPicPr>
        <p:blipFill>
          <a:blip r:embed="rId1"/>
          <a:stretch/>
        </p:blipFill>
        <p:spPr>
          <a:xfrm>
            <a:off x="2666880" y="1676520"/>
            <a:ext cx="3810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71600" y="3123720"/>
            <a:ext cx="648000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HANDS-ON ACTIVITIES FOR REA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WEDNESDAY, NOVEMBER 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FIRST GRADE PAR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Make &amp; Take Worksho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day’s Focu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2437920"/>
            <a:ext cx="85042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Meaning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an you do at hom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2057040"/>
            <a:ext cx="85042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discuss in your first langu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mily Field Tri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de 1 Websi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nds-on Activ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ading Togeth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Picture 4" descr="C:\Documents and Settings\blaisv\Desktop\VocabularyWorkshop\family13.jpg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amily Field Tri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5" name="Picture 2" descr="http://www.life123.com/bm.pix/teaching-children-about-stars.s600x600.jpg"/>
          <p:cNvPicPr/>
          <p:nvPr/>
        </p:nvPicPr>
        <p:blipFill>
          <a:blip r:embed="rId1"/>
          <a:stretch/>
        </p:blipFill>
        <p:spPr>
          <a:xfrm>
            <a:off x="1523880" y="1905120"/>
            <a:ext cx="5991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de 1 Websi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54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17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s-on Activi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4" descr="C:\Documents and Settings\blaisv\Desktop\VocabularyWorkshop\SANY0080.JPG"/>
          <p:cNvPicPr/>
          <p:nvPr/>
        </p:nvPicPr>
        <p:blipFill>
          <a:blip r:embed="rId1"/>
          <a:stretch/>
        </p:blipFill>
        <p:spPr>
          <a:xfrm>
            <a:off x="1676520" y="182880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know what to focus 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7" descr="http://americanradioworks.publicradio.org/features/gmos_india/slideshow/food_india/food_india2.jpg"/>
          <p:cNvPicPr/>
          <p:nvPr/>
        </p:nvPicPr>
        <p:blipFill>
          <a:blip r:embed="rId1"/>
          <a:stretch/>
        </p:blipFill>
        <p:spPr>
          <a:xfrm>
            <a:off x="1295280" y="1752480"/>
            <a:ext cx="67359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tent Vocabul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5" descr="http://www.super-science-fair-projects.com/image-files/kayla.gif"/>
          <p:cNvPicPr/>
          <p:nvPr/>
        </p:nvPicPr>
        <p:blipFill>
          <a:blip r:embed="rId1"/>
          <a:stretch/>
        </p:blipFill>
        <p:spPr>
          <a:xfrm>
            <a:off x="3352680" y="1752480"/>
            <a:ext cx="2513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ds Their Wa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4" name="Picture 2" descr="SANY0002.JPG"/>
          <p:cNvPicPr/>
          <p:nvPr/>
        </p:nvPicPr>
        <p:blipFill>
          <a:blip r:embed="rId1"/>
          <a:stretch/>
        </p:blipFill>
        <p:spPr>
          <a:xfrm>
            <a:off x="1600200" y="1676520"/>
            <a:ext cx="60800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to play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22096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ess which one is miss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h no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m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el free to contact us with any questions you might have about vocabula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rginia Bla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blaisv@tas.edu.t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san Ch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chens@tas.edu.t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ke A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nk of one of the hands-on activities you learned about toda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oose the one you like be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 home and make it with your child this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com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ease fill out a feedback form before you go so that it can help us prepare for the next ESL Parent worksho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urn and talk to a partner about your experienc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nk about a time that you had to learn a new language.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hat types of words did you learn first?  Why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cebreak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4" descr="C:\Documents and Settings\blaisv\Desktop\play.JPG"/>
          <p:cNvPicPr/>
          <p:nvPr/>
        </p:nvPicPr>
        <p:blipFill>
          <a:blip r:embed="rId1"/>
          <a:stretch/>
        </p:blipFill>
        <p:spPr>
          <a:xfrm>
            <a:off x="1676520" y="1752480"/>
            <a:ext cx="5949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L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4" descr="C:\Documents and Settings\blaisv\Desktop\science.JPG"/>
          <p:cNvPicPr/>
          <p:nvPr/>
        </p:nvPicPr>
        <p:blipFill>
          <a:blip r:embed="rId1"/>
          <a:stretch/>
        </p:blipFill>
        <p:spPr>
          <a:xfrm>
            <a:off x="1676520" y="1752480"/>
            <a:ext cx="59166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cabul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3" descr="C:\Documents and Settings\blaisv\Desktop\bighead7.jpg"/>
          <p:cNvPicPr/>
          <p:nvPr/>
        </p:nvPicPr>
        <p:blipFill>
          <a:blip r:embed="rId1"/>
          <a:stretch/>
        </p:blipFill>
        <p:spPr>
          <a:xfrm>
            <a:off x="2819520" y="1600200"/>
            <a:ext cx="3492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Chart 1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5" descr="http://www.ling.gu.se/~sylvana/Images/Writing/writing-with-pen.jpg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a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Picture 5" descr="http://www.wickedlyscarlett.com/wp-content/uploads/2009/05/tourism.jpg"/>
          <p:cNvPicPr/>
          <p:nvPr/>
        </p:nvPicPr>
        <p:blipFill>
          <a:blip r:embed="rId1"/>
          <a:stretch/>
        </p:blipFill>
        <p:spPr>
          <a:xfrm>
            <a:off x="380880" y="335268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http://newsimg.bbc.co.uk/media/images/42381000/jpg/_42381909_playing416.jpg"/>
          <p:cNvPicPr/>
          <p:nvPr/>
        </p:nvPicPr>
        <p:blipFill>
          <a:blip r:embed="rId2"/>
          <a:stretch/>
        </p:blipFill>
        <p:spPr>
          <a:xfrm>
            <a:off x="4800600" y="1600200"/>
            <a:ext cx="3962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00:30Z</dcterms:created>
  <dc:creator>Apple</dc:creator>
  <dc:description/>
  <dc:language>en-US</dc:language>
  <cp:lastModifiedBy>TAS</cp:lastModifiedBy>
  <dcterms:modified xsi:type="dcterms:W3CDTF">2009-10-14T02:49:14Z</dcterms:modified>
  <cp:revision>189</cp:revision>
  <dc:subject/>
  <dc:title>Learning Vocabulary in a Second Language</dc:title>
</cp:coreProperties>
</file>